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AEB93-B616-4218-BCB3-11BD06C17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BE3BC-7360-4897-9AFB-E99525FAC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45F87-275A-48A7-BE8F-11B9270C5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4E05E-8B5F-4DAC-BCE5-3BEA071C6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5F415-5C2A-4FE8-A695-91D438C64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29875-4B8F-4F4D-9E09-E779F2D85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FCB20-B0DB-4015-85C2-8999DE9BB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6F798-2A21-4867-A506-0DE5BE975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3FA7B-FE8A-4242-8FC0-9FA3D046E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C827F-85B0-4D70-8B15-4ABC332B8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8F414-EFB6-4B48-B677-25200E3D1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872AF-1075-4BA5-A760-3EA2FE04D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BC3F3-C0F6-4FEA-B033-A41C8D07A6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CA0AA-C1F6-4C93-80D4-E79F9D39DD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Times New Roman"/>
              </a:rPr>
              <a:t>ASOCIACIÓN ARGENTINA DE ESTUDIOS FISC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2514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Times New Roman"/>
              </a:rPr>
              <a:t>CICLO INTRODUCTORIO A LA ESPECIALIDAD TRIBUTAR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Times New Roman"/>
              </a:rPr>
              <a:t>Primer semestre 20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Times New Roman"/>
              </a:rPr>
              <a:t>24/04/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Times New Roman"/>
              </a:rPr>
              <a:t>IMPUESTO AL VALOR AGREG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Times New Roman"/>
              </a:rPr>
              <a:t>Pablo Andres Robledo y Angel Pere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4"/>
          <p:cNvSpPr/>
          <p:nvPr/>
        </p:nvSpPr>
        <p:spPr>
          <a:xfrm>
            <a:off x="380880" y="380880"/>
            <a:ext cx="8305920" cy="586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FA631-9685-4122-9053-AEF9C6A8B5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2"/>
          <p:cNvSpPr/>
          <p:nvPr/>
        </p:nvSpPr>
        <p:spPr>
          <a:xfrm>
            <a:off x="1116000" y="692280"/>
            <a:ext cx="8207280" cy="728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Sujetos del exterio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mportador, prestatario, responsable sustitu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Personas human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enores de edad / incapac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ausante///Herederos (Neutralida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esponsa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adres, tutores y cura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Herederos, administra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(deuda propia y/o ajen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3"/>
          <p:cNvSpPr/>
          <p:nvPr/>
        </p:nvSpPr>
        <p:spPr>
          <a:xfrm>
            <a:off x="304920" y="304920"/>
            <a:ext cx="8610480" cy="617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78F5E-D411-4967-8F1F-72A85BBEBF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660240" y="990720"/>
            <a:ext cx="80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 u="sng">
                <a:solidFill>
                  <a:srgbClr val="000000"/>
                </a:solidFill>
                <a:uFillTx/>
                <a:latin typeface="Times New Roman"/>
              </a:rPr>
              <a:t>Ventas / - por cuenta  de terceros-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425520" y="1360440"/>
            <a:ext cx="195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A nombre propi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4"/>
          <p:cNvSpPr/>
          <p:nvPr/>
        </p:nvSpPr>
        <p:spPr>
          <a:xfrm>
            <a:off x="2824200" y="15937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3267360" y="1285920"/>
            <a:ext cx="57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em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8"/>
          <p:cNvSpPr/>
          <p:nvPr/>
        </p:nvSpPr>
        <p:spPr>
          <a:xfrm>
            <a:off x="2824200" y="1593720"/>
            <a:ext cx="1457280" cy="82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9"/>
          <p:cNvSpPr/>
          <p:nvPr/>
        </p:nvSpPr>
        <p:spPr>
          <a:xfrm>
            <a:off x="4689720" y="2158920"/>
            <a:ext cx="1972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Liquidación al comit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(Crédito Fisca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11"/>
          <p:cNvSpPr/>
          <p:nvPr/>
        </p:nvSpPr>
        <p:spPr>
          <a:xfrm>
            <a:off x="228600" y="228600"/>
            <a:ext cx="8610480" cy="6324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12"/>
          <p:cNvSpPr/>
          <p:nvPr/>
        </p:nvSpPr>
        <p:spPr>
          <a:xfrm>
            <a:off x="441360" y="270000"/>
            <a:ext cx="178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Otros suje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1 Rectángulo"/>
          <p:cNvSpPr/>
          <p:nvPr/>
        </p:nvSpPr>
        <p:spPr>
          <a:xfrm>
            <a:off x="4692600" y="1281240"/>
            <a:ext cx="2286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Factura venta a tercero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(Débito Fiscal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1 Rectángulo"/>
          <p:cNvSpPr/>
          <p:nvPr/>
        </p:nvSpPr>
        <p:spPr>
          <a:xfrm>
            <a:off x="736560" y="2805120"/>
            <a:ext cx="353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 u="sng">
                <a:solidFill>
                  <a:srgbClr val="000000"/>
                </a:solidFill>
                <a:uFillTx/>
                <a:latin typeface="Times New Roman"/>
              </a:rPr>
              <a:t>Compras / - por cuenta  de terceros-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2 Rectángulo"/>
          <p:cNvSpPr/>
          <p:nvPr/>
        </p:nvSpPr>
        <p:spPr>
          <a:xfrm>
            <a:off x="746280" y="3341520"/>
            <a:ext cx="21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A nombre propi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Line 4"/>
          <p:cNvSpPr/>
          <p:nvPr/>
        </p:nvSpPr>
        <p:spPr>
          <a:xfrm>
            <a:off x="2976480" y="36352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Line 8"/>
          <p:cNvSpPr/>
          <p:nvPr/>
        </p:nvSpPr>
        <p:spPr>
          <a:xfrm>
            <a:off x="2995560" y="3635280"/>
            <a:ext cx="1457280" cy="82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1 Rectángulo"/>
          <p:cNvSpPr/>
          <p:nvPr/>
        </p:nvSpPr>
        <p:spPr>
          <a:xfrm>
            <a:off x="4511520" y="340344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Liquidación al comit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1 Rectángulo"/>
          <p:cNvSpPr/>
          <p:nvPr/>
        </p:nvSpPr>
        <p:spPr>
          <a:xfrm>
            <a:off x="4576680" y="4114800"/>
            <a:ext cx="2286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Factura del vendedor (Proveedor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6"/>
          <p:cNvSpPr/>
          <p:nvPr/>
        </p:nvSpPr>
        <p:spPr>
          <a:xfrm>
            <a:off x="3262680" y="3327480"/>
            <a:ext cx="57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em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6"/>
          <p:cNvSpPr/>
          <p:nvPr/>
        </p:nvSpPr>
        <p:spPr>
          <a:xfrm rot="1483800">
            <a:off x="3363120" y="4052880"/>
            <a:ext cx="61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reci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21 Rectángulo"/>
          <p:cNvSpPr/>
          <p:nvPr/>
        </p:nvSpPr>
        <p:spPr>
          <a:xfrm>
            <a:off x="704520" y="4659480"/>
            <a:ext cx="477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 u="sng">
                <a:solidFill>
                  <a:srgbClr val="000000"/>
                </a:solidFill>
                <a:uFillTx/>
                <a:latin typeface="Times New Roman"/>
              </a:rPr>
              <a:t>Ventas/ Compras – nombre y cuenta  de terceros-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22 Rectángulo"/>
          <p:cNvSpPr/>
          <p:nvPr/>
        </p:nvSpPr>
        <p:spPr>
          <a:xfrm>
            <a:off x="753480" y="5157720"/>
            <a:ext cx="259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En nombre de tercer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Line 4"/>
          <p:cNvSpPr/>
          <p:nvPr/>
        </p:nvSpPr>
        <p:spPr>
          <a:xfrm>
            <a:off x="3348000" y="534204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6"/>
          <p:cNvSpPr/>
          <p:nvPr/>
        </p:nvSpPr>
        <p:spPr>
          <a:xfrm>
            <a:off x="3648600" y="5030640"/>
            <a:ext cx="57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em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1 Rectángulo"/>
          <p:cNvSpPr/>
          <p:nvPr/>
        </p:nvSpPr>
        <p:spPr>
          <a:xfrm>
            <a:off x="4735440" y="5176800"/>
            <a:ext cx="30402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Factura por comisión (al mandan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6B695-9017-46D4-9C19-3242995837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 u="sng">
                <a:solidFill>
                  <a:srgbClr val="000000"/>
                </a:solidFill>
                <a:uFillTx/>
                <a:latin typeface="Times New Roman"/>
              </a:rPr>
              <a:t>Entes Colectiv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1212120" y="2174760"/>
            <a:ext cx="43149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sorci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TE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tratos asocia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Ot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grupamientos de profesio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tratos en participa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Otros suje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4"/>
          <p:cNvSpPr/>
          <p:nvPr/>
        </p:nvSpPr>
        <p:spPr>
          <a:xfrm>
            <a:off x="304920" y="304920"/>
            <a:ext cx="8610480" cy="617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33EF4-7C4E-486F-8FB7-AE3E668F86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 u="sng">
                <a:solidFill>
                  <a:srgbClr val="000000"/>
                </a:solidFill>
                <a:uFillTx/>
                <a:latin typeface="Times New Roman"/>
              </a:rPr>
              <a:t>Entes Colectiv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3"/>
          <p:cNvSpPr/>
          <p:nvPr/>
        </p:nvSpPr>
        <p:spPr>
          <a:xfrm>
            <a:off x="761760" y="3505320"/>
            <a:ext cx="175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TE    em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3274560" y="2895480"/>
            <a:ext cx="242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Factura a tercer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5"/>
          <p:cNvSpPr/>
          <p:nvPr/>
        </p:nvSpPr>
        <p:spPr>
          <a:xfrm>
            <a:off x="3294360" y="3962520"/>
            <a:ext cx="461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ota de asignación a sus integra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6"/>
          <p:cNvSpPr/>
          <p:nvPr/>
        </p:nvSpPr>
        <p:spPr>
          <a:xfrm>
            <a:off x="964800" y="5299200"/>
            <a:ext cx="570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eficiente acumulación de créditos fisc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Line 7"/>
          <p:cNvSpPr/>
          <p:nvPr/>
        </p:nvSpPr>
        <p:spPr>
          <a:xfrm>
            <a:off x="2666880" y="320040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Line 8"/>
          <p:cNvSpPr/>
          <p:nvPr/>
        </p:nvSpPr>
        <p:spPr>
          <a:xfrm>
            <a:off x="2666880" y="4267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Line 9"/>
          <p:cNvSpPr/>
          <p:nvPr/>
        </p:nvSpPr>
        <p:spPr>
          <a:xfrm>
            <a:off x="2666880" y="32004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10"/>
          <p:cNvSpPr/>
          <p:nvPr/>
        </p:nvSpPr>
        <p:spPr>
          <a:xfrm>
            <a:off x="304920" y="304920"/>
            <a:ext cx="8534160" cy="617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E974E-36BE-40B4-9DD3-5054C17986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 u="sng">
                <a:solidFill>
                  <a:srgbClr val="000000"/>
                </a:solidFill>
                <a:uFillTx/>
                <a:latin typeface="Times New Roman"/>
              </a:rPr>
              <a:t>Entes colectiv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3"/>
          <p:cNvSpPr/>
          <p:nvPr/>
        </p:nvSpPr>
        <p:spPr>
          <a:xfrm>
            <a:off x="977040" y="3241800"/>
            <a:ext cx="86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Line 4"/>
          <p:cNvSpPr/>
          <p:nvPr/>
        </p:nvSpPr>
        <p:spPr>
          <a:xfrm>
            <a:off x="1981080" y="35053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3504240" y="3276720"/>
            <a:ext cx="25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ota de asign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6"/>
          <p:cNvSpPr/>
          <p:nvPr/>
        </p:nvSpPr>
        <p:spPr>
          <a:xfrm>
            <a:off x="2207520" y="4572000"/>
            <a:ext cx="3289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Valor de transfer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ntes sin fines de lucr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228600" y="304920"/>
            <a:ext cx="8686800" cy="6324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5CC90-72D9-4D33-9F5A-0FDFBE649F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2"/>
          <p:cNvSpPr/>
          <p:nvPr/>
        </p:nvSpPr>
        <p:spPr>
          <a:xfrm>
            <a:off x="1497240" y="1717560"/>
            <a:ext cx="199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sorcio p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domini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3"/>
          <p:cNvSpPr/>
          <p:nvPr/>
        </p:nvSpPr>
        <p:spPr>
          <a:xfrm>
            <a:off x="5579640" y="1676520"/>
            <a:ext cx="2248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strucción 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domin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4"/>
          <p:cNvSpPr/>
          <p:nvPr/>
        </p:nvSpPr>
        <p:spPr>
          <a:xfrm>
            <a:off x="4114800" y="20574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5"/>
          <p:cNvSpPr/>
          <p:nvPr/>
        </p:nvSpPr>
        <p:spPr>
          <a:xfrm>
            <a:off x="4114800" y="21337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6"/>
          <p:cNvSpPr/>
          <p:nvPr/>
        </p:nvSpPr>
        <p:spPr>
          <a:xfrm flipH="1">
            <a:off x="4343040" y="1752480"/>
            <a:ext cx="2286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5650560" y="4149720"/>
            <a:ext cx="21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ictamen 21/9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Line 8"/>
          <p:cNvSpPr/>
          <p:nvPr/>
        </p:nvSpPr>
        <p:spPr>
          <a:xfrm>
            <a:off x="2556000" y="2455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9"/>
          <p:cNvSpPr/>
          <p:nvPr/>
        </p:nvSpPr>
        <p:spPr>
          <a:xfrm>
            <a:off x="608400" y="3043080"/>
            <a:ext cx="385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o hay venta, es adjud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Line 10"/>
          <p:cNvSpPr/>
          <p:nvPr/>
        </p:nvSpPr>
        <p:spPr>
          <a:xfrm>
            <a:off x="2556000" y="354024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11"/>
          <p:cNvSpPr/>
          <p:nvPr/>
        </p:nvSpPr>
        <p:spPr>
          <a:xfrm>
            <a:off x="1475280" y="4191120"/>
            <a:ext cx="21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ictamen 47/8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12"/>
          <p:cNvSpPr/>
          <p:nvPr/>
        </p:nvSpPr>
        <p:spPr>
          <a:xfrm>
            <a:off x="324000" y="404640"/>
            <a:ext cx="849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 u="sng">
                <a:solidFill>
                  <a:srgbClr val="000000"/>
                </a:solidFill>
                <a:uFillTx/>
                <a:latin typeface="Times New Roman"/>
              </a:rPr>
              <a:t>Entes Colectivo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3"/>
          <p:cNvSpPr/>
          <p:nvPr/>
        </p:nvSpPr>
        <p:spPr>
          <a:xfrm>
            <a:off x="228600" y="304920"/>
            <a:ext cx="8610480" cy="624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Line 14"/>
          <p:cNvSpPr/>
          <p:nvPr/>
        </p:nvSpPr>
        <p:spPr>
          <a:xfrm>
            <a:off x="6732720" y="2455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15"/>
          <p:cNvSpPr/>
          <p:nvPr/>
        </p:nvSpPr>
        <p:spPr>
          <a:xfrm>
            <a:off x="5391720" y="3043080"/>
            <a:ext cx="266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ealidad económ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Line 16"/>
          <p:cNvSpPr/>
          <p:nvPr/>
        </p:nvSpPr>
        <p:spPr>
          <a:xfrm>
            <a:off x="6732720" y="354024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18"/>
          <p:cNvSpPr/>
          <p:nvPr/>
        </p:nvSpPr>
        <p:spPr>
          <a:xfrm>
            <a:off x="684360" y="5348160"/>
            <a:ext cx="50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Fideicomiso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43CEA-A8F3-4667-AC32-93A96511C1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ntrato en participacion</a:t>
            </a:r>
            <a:br>
              <a:rPr sz="2800"/>
            </a:b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(Sociedad Accidenta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3"/>
          <p:cNvSpPr/>
          <p:nvPr/>
        </p:nvSpPr>
        <p:spPr>
          <a:xfrm>
            <a:off x="1197000" y="2631960"/>
            <a:ext cx="4176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ujeto colec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ujeto  - socio gestor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relación asociativa oculta -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4"/>
          <p:cNvSpPr/>
          <p:nvPr/>
        </p:nvSpPr>
        <p:spPr>
          <a:xfrm>
            <a:off x="304920" y="304920"/>
            <a:ext cx="8534160" cy="624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D6062-8307-4192-AF89-229B727380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04640"/>
            <a:ext cx="777240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 u="sng">
                <a:solidFill>
                  <a:srgbClr val="000000"/>
                </a:solidFill>
                <a:uFillTx/>
                <a:latin typeface="Times New Roman"/>
              </a:rPr>
              <a:t>Normas y antecedentes relevan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684360" y="1125360"/>
            <a:ext cx="784836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RG. (AFIP) Nº 2854/10 (Retenciones IVA)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RG (AFIP) Nº 2408 (Percepciones IVA) y RG N° 2937 (Percep.Importaciones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RG (AFIP) N° 2226 (Certificacados de exclusión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RG (AFIP) Nº 689 (Entes colectivos de profesionales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Fallo CSJN “Central Neuquen S.A y otros  c/ Prov. Bs. As. Acción declarativa” 16/04/2002. Fallo CNCAF “Ctral Termica Loma de la Lata” 12/3/2020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ict. (DAT) Nº 20/94 Menores de e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ict. (DAT) Nº 118/96 (UT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ict. (DAT) Nº 4/2001 (Transferencia de participaciones UT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ict. (DAT) Nº 178/94 (AC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Dict. (DAT) Nº 70/2002 Contrato de maquila (art. Nota externa DGI 4/98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Dict. (DATJ) Nº 41/85 Consorcios de construcción (condominio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Dict. (DAT) Nº 21/95 Construcción en condominio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Dict. (DAL) Nº 19/98 Sociedades accidentale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R.G. (AFIP) 1032 (Condominios. Locación de inmuebles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Dict. (DAT) 55/05; (DAT) 16/06 y (DAT) 18/06 (Fideicomisos. Transferencias y adjudicaciones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4"/>
          <p:cNvSpPr/>
          <p:nvPr/>
        </p:nvSpPr>
        <p:spPr>
          <a:xfrm>
            <a:off x="304920" y="304920"/>
            <a:ext cx="8534160" cy="6324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15:37:37Z</dcterms:created>
  <dc:creator>Ernst &amp; Young</dc:creator>
  <dc:description/>
  <dc:language>en-US</dc:language>
  <cp:lastModifiedBy>Angel Pereira</cp:lastModifiedBy>
  <dcterms:modified xsi:type="dcterms:W3CDTF">2024-04-23T15:29:24Z</dcterms:modified>
  <cp:revision>217</cp:revision>
  <dc:subject/>
  <dc:title>ASOCIACION ARGENTINA DE ESTUDIOS FISCALES</dc:title>
</cp:coreProperties>
</file>